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1720" y="626760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AE22-C179-4BE8-8CCA-3EAD7BCE7E4E}" type="slidenum">
              <a:rPr b="1" lang="en-US" sz="1600" spc="-1" strike="noStrike">
                <a:solidFill>
                  <a:srgbClr val="777777"/>
                </a:solidFill>
                <a:latin typeface="Myriad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2210040" cy="17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6668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666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276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Myriad Roman"/>
              </a:rPr>
              <a:t>RESERVE BANK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06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Myriad Roman"/>
              </a:rPr>
              <a:t>PDO – NDS COMPU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1195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yriad Roman"/>
              </a:rPr>
              <a:t>Installation Manual-Serve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7: Input File Lo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1600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Click “…” to select Inp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2025720"/>
          <a:ext cx="60962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25720"/>
                    <a:ext cx="60962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8: InputFile selected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1600200"/>
          <a:ext cx="632448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3244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167652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9: Select Directory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120" y="1752480"/>
          <a:ext cx="7772400" cy="43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7240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0: Set Registry Valu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838080" y="1752480"/>
          <a:ext cx="769644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6964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1: Choose Program Gro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2: Choose Program Gro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676520"/>
          <a:ext cx="78483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8483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3: Setup Continues 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1600200"/>
          <a:ext cx="76201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6201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4: Setup Continues 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2971800"/>
          <a:ext cx="769644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7696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5: COM+ Install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19320" y="1828800"/>
          <a:ext cx="67816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67816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6: COM+ Installation continues..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8080" y="1622520"/>
          <a:ext cx="769644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22520"/>
                    <a:ext cx="769644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CONTEN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TEPS OF INSTALL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7: Setup Completed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66680" y="1676520"/>
          <a:ext cx="72392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2392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8: Access PDONDS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19320" y="1886040"/>
          <a:ext cx="68580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86040"/>
                    <a:ext cx="68580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9: Login to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666880" y="2590920"/>
          <a:ext cx="41148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0: PDONDS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1676520"/>
          <a:ext cx="723888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2388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PDONDS Server Setup 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Following slides guide through the installation procedur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: 1 Generate Inpu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 of GenerateInputs.exe: 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tup folder\Support File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8120" y="3429000"/>
          <a:ext cx="2133360" cy="15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429000"/>
                    <a:ext cx="213336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: Run GenerateInpu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132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909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Location of setup.ex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tup fold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: Run RBI PDONDS Set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9880" y="3657600"/>
          <a:ext cx="1371600" cy="13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657600"/>
                    <a:ext cx="137160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066680" y="1828800"/>
          <a:ext cx="731520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4: Setup star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66680" y="1752480"/>
          <a:ext cx="72392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7239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5: Click “OK”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6: Click “UPGRADATION”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6688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2025720"/>
          <a:ext cx="60962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25720"/>
                    <a:ext cx="60962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artor</cp:lastModifiedBy>
  <cp:lastPrinted>2001-09-06T04:03:13Z</cp:lastPrinted>
  <dcterms:modified xsi:type="dcterms:W3CDTF">2005-03-28T08:38:32Z</dcterms:modified>
  <cp:revision>475</cp:revision>
  <dc:subject/>
  <dc:title>Software Project Management</dc:title>
</cp:coreProperties>
</file>